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482-85A6-464E-8AEB-95F46470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909-145D-4ADA-955E-3312E3B0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D28-D419-429D-91DF-3E2BC528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C09-0414-47DD-8FA1-57BB751B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98B-F0C4-4420-8FB2-C6A6F9C0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EE5-1A80-43E6-9005-F24E7924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DD7-F9B8-49CB-8159-57D3D029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550-172D-4826-A4DF-4BC2CFA8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BFE-1750-47CB-8C8F-C852C062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E06-04AF-446F-A25C-BD9D004A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D6C-B7DB-484C-8E96-10978F5A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FE1-16BF-4483-8424-3191EE67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BB43-AF57-4ACD-B7AC-FA66809A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9.png"/><Relationship Id="rId15" Type="http://schemas.openxmlformats.org/officeDocument/2006/relationships/image" Target="../media/image12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9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5.png"/><Relationship Id="rId16" Type="http://schemas.openxmlformats.org/officeDocument/2006/relationships/image" Target="../media/image9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9.png"/><Relationship Id="rId16" Type="http://schemas.openxmlformats.org/officeDocument/2006/relationships/image" Target="../media/image11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.png"/><Relationship Id="rId17" Type="http://schemas.openxmlformats.org/officeDocument/2006/relationships/image" Target="../media/image7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666880" y="4260960"/>
            <a:ext cx="685800" cy="53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733920" y="5861160"/>
            <a:ext cx="685800" cy="53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37960" y="1905120"/>
            <a:ext cx="822024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14600" y="304920"/>
            <a:ext cx="6324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Rounded MT Bold"/>
              </a:rPr>
              <a:t>HIDE &amp; SEEK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7520" y="76320"/>
            <a:ext cx="292428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8320" y="144792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Rounded MT Bold"/>
              </a:rPr>
              <a:t>Preposition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8" name="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6781680" y="5257800"/>
            <a:ext cx="2057400" cy="1454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21432000">
            <a:off x="7118280" y="6067080"/>
            <a:ext cx="156996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PLA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3"/>
          <a:stretch/>
        </p:blipFill>
        <p:spPr>
          <a:xfrm>
            <a:off x="2743200" y="4876920"/>
            <a:ext cx="685800" cy="53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4"/>
          <a:stretch/>
        </p:blipFill>
        <p:spPr>
          <a:xfrm>
            <a:off x="2514600" y="6165720"/>
            <a:ext cx="685800" cy="5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5"/>
          <a:stretch/>
        </p:blipFill>
        <p:spPr>
          <a:xfrm>
            <a:off x="6400800" y="5257800"/>
            <a:ext cx="685800" cy="53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6"/>
          <a:stretch/>
        </p:blipFill>
        <p:spPr>
          <a:xfrm>
            <a:off x="762120" y="603360"/>
            <a:ext cx="68580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7"/>
          <a:stretch/>
        </p:blipFill>
        <p:spPr>
          <a:xfrm>
            <a:off x="3200400" y="2362320"/>
            <a:ext cx="685800" cy="53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8"/>
          <a:stretch/>
        </p:blipFill>
        <p:spPr>
          <a:xfrm>
            <a:off x="457200" y="56386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9"/>
          <a:stretch/>
        </p:blipFill>
        <p:spPr>
          <a:xfrm>
            <a:off x="8153280" y="22096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0"/>
          <a:stretch/>
        </p:blipFill>
        <p:spPr>
          <a:xfrm>
            <a:off x="7162920" y="22096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1"/>
          <a:stretch/>
        </p:blipFill>
        <p:spPr>
          <a:xfrm>
            <a:off x="5181480" y="2209680"/>
            <a:ext cx="685800" cy="54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2"/>
          <a:stretch/>
        </p:blipFill>
        <p:spPr>
          <a:xfrm>
            <a:off x="6172200" y="2209680"/>
            <a:ext cx="68580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 rot="21063600">
            <a:off x="2362320" y="2418840"/>
            <a:ext cx="12952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934320" y="472428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2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3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4602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1430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under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5"/>
          <a:stretch/>
        </p:blipFill>
        <p:spPr>
          <a:xfrm>
            <a:off x="2133720" y="3095640"/>
            <a:ext cx="4438440" cy="34574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716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76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782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286000" y="3505320"/>
            <a:ext cx="4438800" cy="307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4010040" y="2286000"/>
            <a:ext cx="17812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 rot="21025800">
            <a:off x="2437920" y="2571840"/>
            <a:ext cx="12956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921360" y="4724280"/>
            <a:ext cx="2006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572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1143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on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24 0.44097 L 0.1151 0.26204 L 0.3934 0.26875 L 0.3934 -0.02454 L 0.25833 -0.02917 L 0.25677 -0.13333 L 0.14166 -0.13333 L 0.14166 -0.3 L -0.00156 -0.3 L 2.5E-006 -0.00023 E">
                                      <p:cBhvr>
                                        <p:cTn id="6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10040" y="2590920"/>
            <a:ext cx="1781280" cy="1447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286000" y="3505320"/>
            <a:ext cx="443880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 rot="20818800">
            <a:off x="2514240" y="2343240"/>
            <a:ext cx="1295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29560" y="470844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572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63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1143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in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24 0.44097 L 0.1151 0.26204 L 0.3934 0.26875 L 0.3934 -0.02454 L 0.25833 -0.02917 L 0.25677 -0.13333 L 0.14166 -0.13333 L 0.14166 -0.3 L -0.00156 -0.3 L 2.5E-006 -0.00023 E">
                                      <p:cBhvr>
                                        <p:cTn id="15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2133720" y="2943360"/>
            <a:ext cx="4438440" cy="307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3019320" y="5181480"/>
            <a:ext cx="1781280" cy="1447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 rot="21063600">
            <a:off x="2362320" y="2418840"/>
            <a:ext cx="12952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934320" y="4648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4648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11430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in front of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39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024 0.02431 L 0.0691 -0.15463 L 0.3474 -0.14792 L 0.3474 -0.4412 L 0.21233 -0.44583 L 0.21077 -0.55 L 0.09566 -0.55 L 0.09566 -0.71667 L -0.04757 -0.71667 L -0.05086 -0.00555 E">
                                      <p:cBhvr>
                                        <p:cTn id="23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6858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2286000" y="3505320"/>
            <a:ext cx="4438800" cy="3076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5638680" y="3505320"/>
            <a:ext cx="1447920" cy="117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20187600">
            <a:off x="2666520" y="2438280"/>
            <a:ext cx="12956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46623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4602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1143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near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67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17 0.32199 L -0.09983 0.14305 L 0.17847 0.14977 L 0.17847 -0.14352 L 0.0434 -0.14815 L 0.04184 -0.25232 L -0.07327 -0.25232 L -0.07327 -0.41898 L -0.2165 -0.41898 L -0.15747 -0.29445 L -0.35243 -0.30116 L -0.35243 -0.16343 L -0.16424 -0.15232 L -0.02084 -0.00787 E">
                                      <p:cBhvr>
                                        <p:cTn id="31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0393400">
            <a:off x="2209680" y="2590560"/>
            <a:ext cx="12956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934320" y="466236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4602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4"/>
          <a:stretch/>
        </p:blipFill>
        <p:spPr>
          <a:xfrm>
            <a:off x="3276720" y="3733920"/>
            <a:ext cx="1780920" cy="1447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5"/>
          <a:stretch/>
        </p:blipFill>
        <p:spPr>
          <a:xfrm>
            <a:off x="2286000" y="3505320"/>
            <a:ext cx="4438800" cy="3076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1143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behind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93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685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24 0.23542 L 0.05694 0.05648 L 0.33524 0.06319 L 0.33524 -0.23009 L 0.20017 -0.23472 L 0.19861 -0.33889 L 0.08351 -0.33889 L 0.08351 -0.50556 L -0.21406 -0.50324 L -0.21076 -0.32106 L -0.01406 -0.31898 L -0.01406 0.00556 E">
                                      <p:cBhvr>
                                        <p:cTn id="399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514600" y="3989520"/>
            <a:ext cx="3809880" cy="2639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 rot="20301000">
            <a:off x="2209680" y="3581280"/>
            <a:ext cx="12956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34320" y="472428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320" y="4602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3324240" y="1857240"/>
            <a:ext cx="2314440" cy="2714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47720" y="1263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above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220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716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2819520" y="3657600"/>
            <a:ext cx="3962160" cy="2746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 rot="20554200">
            <a:off x="2666520" y="3048120"/>
            <a:ext cx="12956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934320" y="472428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1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2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3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4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466236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11430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next to the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6"/>
          <a:stretch/>
        </p:blipFill>
        <p:spPr>
          <a:xfrm>
            <a:off x="1628640" y="4648320"/>
            <a:ext cx="1648080" cy="1447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63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14 0.16111 L 0.09028 -0.05463 L 0.36858 -0.04791 L 0.36858 -0.3412 L 0.23351 -0.34583 L 0.23194 -0.45 L 0.11684 -0.45 L 0.11684 -0.61666 L -0.02639 -0.61666 L 0.03507 -0.32106 L 0.0118 0.00556 E">
                                      <p:cBhvr>
                                        <p:cTn id="56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78168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78168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78168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781680" y="5400720"/>
            <a:ext cx="2057400" cy="1225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934320" y="19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1752480" y="4648320"/>
            <a:ext cx="2133720" cy="1479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3629160" y="4648320"/>
            <a:ext cx="1780920" cy="1447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2666880" y="3048120"/>
            <a:ext cx="12956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6781680" y="152280"/>
            <a:ext cx="2057400" cy="1228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934320" y="464832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1"/>
          <a:stretch/>
        </p:blipFill>
        <p:spPr>
          <a:xfrm>
            <a:off x="0" y="1438200"/>
            <a:ext cx="2057400" cy="12258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2"/>
          <a:stretch/>
        </p:blipFill>
        <p:spPr>
          <a:xfrm>
            <a:off x="0" y="27338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3"/>
          <a:stretch/>
        </p:blipFill>
        <p:spPr>
          <a:xfrm>
            <a:off x="0" y="410544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0" y="5400720"/>
            <a:ext cx="2057400" cy="1225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5"/>
          <a:stretch/>
        </p:blipFill>
        <p:spPr>
          <a:xfrm>
            <a:off x="0" y="152280"/>
            <a:ext cx="2057400" cy="1225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522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320" y="460224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ex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594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304920"/>
            <a:ext cx="4648320" cy="53316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11430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 Rounded MT Bold"/>
              </a:rPr>
              <a:t>Yes! It is between the ha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133720" y="3808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here is the mouse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7"/>
          <a:stretch/>
        </p:blipFill>
        <p:spPr>
          <a:xfrm>
            <a:off x="4724280" y="4800600"/>
            <a:ext cx="2133720" cy="1479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 rot="21438600">
            <a:off x="7191360" y="6067080"/>
            <a:ext cx="13716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71604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073 0.04653 L -0.00139 -0.1324 L 0.27691 -0.12569 L 0.27691 -0.41898 L 0.0257 -0.4324 L 0.01233 -0.61227 L -0.14427 -0.5456 L -0.27101 -0.35463 L -0.03767 -0.00787 E">
                                      <p:cBhvr>
                                        <p:cTn id="64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4:39:27Z</dcterms:created>
  <dc:creator>Gabi</dc:creator>
  <dc:description/>
  <dc:language>en-US</dc:language>
  <cp:lastModifiedBy>Gabi</cp:lastModifiedBy>
  <dcterms:modified xsi:type="dcterms:W3CDTF">2009-05-29T14:39:48Z</dcterms:modified>
  <cp:revision>1</cp:revision>
  <dc:subject/>
  <dc:title>Slide 1</dc:title>
</cp:coreProperties>
</file>